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819-3DD3-465B-AA50-60EB2EA2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DD4-3E76-4C7A-A0CC-F42C4111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A63-ED2A-45FD-9ABF-44A6197F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5D1-9650-4BBA-A2B0-C4C3CE05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F29-69B1-4170-838C-5CC80194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40D-500C-413C-875A-4ADDC0CF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DE6-EF8F-4D65-BE56-F870857C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CDF-AF93-4853-96B9-184539D9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403-7F18-4D3F-8583-C538B9D1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E27-BE80-411A-8872-823DD521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ABF-1EE1-4ED1-AB4D-0C2CBDC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068-9F04-45ED-A52A-958FACE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61D-845A-4AC2-BF29-1284B1B4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12080" y="60199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2AE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War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W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280-EA2E-4F1C-88BE-26F69444BC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ope State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completion of this lesson you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familiar with MWR policies and procedures, echelon responsibilities, funding and planning requirements on the battlefield, and mobilization/demobilization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303-A120-4B91-A12F-B12C4240C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WR On The Battle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89856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162920" y="4876920"/>
            <a:ext cx="66492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705720" y="3505320"/>
            <a:ext cx="1066680" cy="99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715000" y="4648320"/>
            <a:ext cx="1390680" cy="135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162920" y="1981080"/>
            <a:ext cx="1241280" cy="138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62120" y="3733920"/>
            <a:ext cx="844560" cy="93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1447920" y="2286000"/>
            <a:ext cx="1008000" cy="148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2590920" y="2438280"/>
            <a:ext cx="3276360" cy="33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374-920A-4278-9DAA-B115CEB2E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32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AL, WELFARE, RE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4880" y="1628640"/>
          <a:ext cx="7734240" cy="42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628640"/>
                    <a:ext cx="773424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AEC-58F5-44A3-AB9C-5ABD522A50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ding and Planning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ppropriated Funds (AP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itary Personnel-Army (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 and Maintenance-Army  (O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itary Construction-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18960" y="4190760"/>
            <a:ext cx="7010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-Appropriated funds (N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22A-FE9D-414C-B52F-9B414FA11A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ication of DO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tegor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ed forces professional entertainment programs overs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ymnasium, physical fitness, and aquatic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ks and picnic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admission mov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rts and athletic activities, etc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tegor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s and crafts skil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otive skill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 development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door re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tional swimming p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rts programs above intramur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th services, etc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EA5-3FB5-4F99-BCAB-19BB58442E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ication of DOD activiti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br>
              <a:rPr sz="3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ero activities such as flying cl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usement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ies related to AAF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wling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ary guest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lf cou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cycle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chute and skydiv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ating r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eet/trap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ack bars/soda fou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ial travels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service facilities, such as the Sanno Hotel, Tokyo, Japan, etc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034-CBB0-490E-9032-2C80D695A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7T16:02:48Z</dcterms:created>
  <dc:creator>Torrey moore</dc:creator>
  <dc:description/>
  <dc:language>en-US</dc:language>
  <cp:lastModifiedBy>Administrator</cp:lastModifiedBy>
  <cp:lastPrinted>1999-03-07T17:43:16Z</cp:lastPrinted>
  <dcterms:modified xsi:type="dcterms:W3CDTF">2005-07-08T12:14:31Z</dcterms:modified>
  <cp:revision>14</cp:revision>
  <dc:subject/>
  <dc:title>Scope Statemen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C\CCC5HE04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